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43885"/>
        <c:axId val="81072015"/>
      </c:barChart>
      <c:catAx>
        <c:axId val="85043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72015"/>
        <c:crosses val="autoZero"/>
        <c:auto val="1"/>
        <c:lblAlgn val="ctr"/>
        <c:lblOffset val="100"/>
        <c:noMultiLvlLbl val="0"/>
      </c:catAx>
      <c:valAx>
        <c:axId val="81072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43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866-1B0C-475E-A47C-987E7F1D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0DAD-2F20-4862-AC39-1CFC808B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65A2-B4D9-4D39-BE58-51E7BB59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F00A-CCC6-4EB7-80A0-276806AE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5EA0-2420-4F4D-AC51-9A240A29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FCCD-1FAE-4182-9D6F-7CBFC0F3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10E-1D3E-4CD2-B672-C5335B36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C48-D84B-4687-8475-18D88532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F027-7CE4-45F4-A8DD-B0DADACF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783A-5646-46D5-B5E3-9CF46C7D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C86-8E56-4C57-BD8A-03990E28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285B-09C7-40AE-8DD7-1D588227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D33B7-02DC-4F92-8A9B-F6142EAD04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