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81186"/>
        <c:axId val="95013674"/>
      </c:barChart>
      <c:catAx>
        <c:axId val="923811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13674"/>
        <c:crosses val="autoZero"/>
        <c:auto val="1"/>
        <c:lblAlgn val="ctr"/>
        <c:lblOffset val="100"/>
        <c:noMultiLvlLbl val="0"/>
      </c:catAx>
      <c:valAx>
        <c:axId val="95013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811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64E-E92B-4D68-A66F-F3DD77F4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98E9-71BE-454A-B5EA-34B67DF1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ACF-DF56-4BDB-953F-451C1645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44F-770F-4F66-BB55-6559C584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1F3B-E3B6-41A9-BDD1-1069F48F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CD36-16A7-4D9F-8A02-BC4133EE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4152-B0A8-4412-B6CD-5432BC1A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E0E-9EEE-41C6-9E56-0708CC5D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988-989C-46F4-986D-A9D36AE98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0230-D0B1-459F-85CB-211AA4A7A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6D7-15F3-41A3-AF8D-B45D133ED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4D1B-2851-4BD3-85FC-ED4EE50A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0BEA6-7040-48CF-B48B-8C76D50BE6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