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40051"/>
        <c:axId val="46363022"/>
      </c:barChart>
      <c:catAx>
        <c:axId val="16440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3022"/>
        <c:crosses val="autoZero"/>
        <c:auto val="1"/>
        <c:lblAlgn val="ctr"/>
        <c:lblOffset val="100"/>
        <c:noMultiLvlLbl val="0"/>
      </c:catAx>
      <c:valAx>
        <c:axId val="46363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40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6E8-EFC7-4615-80B6-B8BA7B97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A51-FDB3-40B7-8480-DCF55EB8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DB3-85A5-48F7-9986-A5841A2A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364-9AF5-46AC-B001-0D4ED02F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C31-BB43-4BBF-ACD8-ADFFDA33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D87-0D04-44A6-AD84-E1310EC7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A88-83C5-4F04-833E-247553CE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CC0-E5CC-4F52-989F-8C34B326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8AE-E735-4E79-8EAC-826E7059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CF5-9345-4299-AADF-A7E4325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B08-3EF1-4F93-8C0D-AC6C440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E04-3DC7-4EB6-ACBE-6F23134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AD2AE-022C-427A-BC42-3B1C26F964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