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46071"/>
        <c:axId val="55450810"/>
      </c:barChart>
      <c:catAx>
        <c:axId val="43446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0810"/>
        <c:crosses val="autoZero"/>
        <c:auto val="1"/>
        <c:lblAlgn val="ctr"/>
        <c:lblOffset val="100"/>
        <c:noMultiLvlLbl val="0"/>
      </c:catAx>
      <c:valAx>
        <c:axId val="55450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6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C0A-0BE1-406D-9296-FE434AA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0C6-F99B-4362-AD16-8DFA36A5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9D4-E1F0-4A5F-876C-886703A3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4B6-6861-4105-9EB6-64D67C13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C41-8AB4-4A62-85A8-AFA0EE8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5A2-1DA2-4F07-859C-B0EDF7EB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67F-3975-418A-8B56-BB357A1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E39-2EC5-405E-9FDD-649FCECD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FA3-D2EA-4D12-A0CD-77985FAC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E95-54CE-467E-99E9-6D2E747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9C2-E2E5-45D9-8141-2928C4B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29F-7141-4C0C-8B66-C6398D6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7513-16A0-4ABD-82DB-9083ED915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