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92723"/>
        <c:axId val="22526325"/>
      </c:barChart>
      <c:catAx>
        <c:axId val="20592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26325"/>
        <c:crosses val="autoZero"/>
        <c:auto val="1"/>
        <c:lblAlgn val="ctr"/>
        <c:lblOffset val="100"/>
        <c:noMultiLvlLbl val="0"/>
      </c:catAx>
      <c:valAx>
        <c:axId val="22526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92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64A-818B-4A0B-BF74-E6B00B1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916-E6ED-484A-AEA2-1A50CA0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B9D-4125-4EC6-A2C2-3A775B2B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10D-7A30-4582-8ED7-DCA10C82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B46-E7B0-462B-AC20-E637BC0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804-1228-4974-BD34-218CCE2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6F1-0455-45A0-959C-26A1749D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929-99F4-44DA-B371-46A6E0AE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4FE-09A1-4992-8F35-E83340E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8C5-BF2D-41E2-8C4F-5AE143E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189-2681-4440-BFD8-D15A9E8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A0F-3B84-4783-8EC0-A7BF7CE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ACAC8-381A-4CC6-B197-1076F9B88D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