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5821"/>
        <c:axId val="45086151"/>
      </c:barChart>
      <c:catAx>
        <c:axId val="4975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86151"/>
        <c:crosses val="autoZero"/>
        <c:auto val="1"/>
        <c:lblAlgn val="ctr"/>
        <c:lblOffset val="100"/>
        <c:noMultiLvlLbl val="0"/>
      </c:catAx>
      <c:valAx>
        <c:axId val="45086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5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778-26A3-4F9C-BF32-AF9AEBA6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818-A2C0-430F-9355-ED9573D5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84A-038E-4838-A77F-E438A383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CC7-B5B9-44AC-9D94-15B0C16A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365-F1DF-420B-940F-C6943C5D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3A0-DE41-4207-A423-8890598E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1CC-DD2A-4F83-B052-A28BF9D8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920-C13E-4E06-BA7B-BF5C4D97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65D-1560-4D28-B9BE-4FAFCA23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FA6-75B8-478E-AB95-8BEBF541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A70-D312-49E3-9639-5AEAB362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C2B-E04C-43BB-97F9-889483B9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78078-4E4B-4760-83C0-1E8817EB51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