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30216"/>
        <c:axId val="34794838"/>
      </c:barChart>
      <c:catAx>
        <c:axId val="44230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94838"/>
        <c:crosses val="autoZero"/>
        <c:auto val="1"/>
        <c:lblAlgn val="ctr"/>
        <c:lblOffset val="100"/>
        <c:noMultiLvlLbl val="0"/>
      </c:catAx>
      <c:valAx>
        <c:axId val="34794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0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536-7506-4008-BAB8-1C20F022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E6E-A05E-41F5-A34A-28BB3B0C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0D9-E4DD-44A5-98B5-71FBC827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F6D-033A-4D58-8D8E-AAF3F36E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0B81-0B0E-4203-A39F-1FA8FF3D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2EA-41AB-4072-A055-3856FC79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9FE-DF76-4D86-9FF4-CFE4493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F74-51C5-4738-BE79-5C0E798C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B98-77CA-4A39-8ACF-EDB30C7E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FB08-5F82-4CBB-AF36-8F0A0E0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3D1-33A8-4899-8F3F-49E1233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099-2388-4E9E-AC7D-ED8E2E2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F089B-E71B-4683-A8A2-2E7E2A6DEC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