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7056681"/>
        <c:axId val="87991818"/>
      </c:barChart>
      <c:catAx>
        <c:axId val="1705668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991818"/>
        <c:crosses val="autoZero"/>
        <c:auto val="1"/>
        <c:lblAlgn val="ctr"/>
        <c:lblOffset val="100"/>
        <c:noMultiLvlLbl val="0"/>
      </c:catAx>
      <c:valAx>
        <c:axId val="8799181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05668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EE79-B1E9-49B4-8BFB-DEA266318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14DB-BE48-4A95-B8E3-0A38917F6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D72F-5A0E-4B54-868D-7809F2D2C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D682-8A51-42F2-B271-3831FCA48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D547-009C-4A7A-A0D9-034FB9F41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048F-15EB-4F92-8F06-90561AD82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C8F1-EE38-40F8-A334-2ADB0690C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4166-0227-4D00-9224-9D79AED68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5291-8A68-453C-B9DB-551DF4E79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A0B9-BE55-4777-B046-E1EE949CD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E69A-E1F7-4F92-8F40-2D796D79A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7CE3-D33E-43F0-85DC-D68555533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DDEA32-3A24-4174-81A7-E961F3FDBC3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