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6672"/>
        <c:axId val="25190012"/>
      </c:barChart>
      <c:catAx>
        <c:axId val="9636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90012"/>
        <c:crosses val="autoZero"/>
        <c:auto val="1"/>
        <c:lblAlgn val="ctr"/>
        <c:lblOffset val="100"/>
        <c:noMultiLvlLbl val="0"/>
      </c:catAx>
      <c:valAx>
        <c:axId val="25190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6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706-966E-4CFF-A6E5-E59711D4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1D9-ECBB-498A-8466-2D944F64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32D-6EFB-4641-B64C-1A638521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FAF-D773-4044-94ED-DD911BE7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28B-8A7D-4526-ACC6-2B37BF3B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41A-DD7E-40A4-A437-DCA1B528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A23-8442-437C-AD61-1E1E74C4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C03-CB9A-4883-960A-F3D2DF39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122-24E6-48C4-BEF8-5C1A431E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874-7D48-4E39-BA35-BC2371F0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D98-452E-4BA9-AFF7-42D56BE6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19C-6BD2-4FB4-A4D9-42CD47D9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8A7DF-0EF4-4498-B1FC-3652385BE4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