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5252416"/>
        <c:axId val="64747095"/>
      </c:barChart>
      <c:catAx>
        <c:axId val="7525241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747095"/>
        <c:crosses val="autoZero"/>
        <c:auto val="1"/>
        <c:lblAlgn val="ctr"/>
        <c:lblOffset val="100"/>
        <c:noMultiLvlLbl val="0"/>
      </c:catAx>
      <c:valAx>
        <c:axId val="647470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5241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B33A3-5AE3-4172-8553-0542AD084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FACD-B359-4C2A-9138-55A4BBD43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CD15-3183-4E4E-B41C-59E8E9233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2562-5C5D-4D47-9C28-3E5971D40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E6C1-0554-4365-A226-87D706871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4AF6-FA91-4733-8756-51130447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A9CE5-EFB9-4129-A40F-7C6F95BB5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4992-F1BE-468B-A081-4B7B6FAF3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39B6-A5A7-4ADB-80C6-8D6D71BF6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146B5-07AD-43E9-B9A8-75B6C72F4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E614-B080-4BC6-B233-68E0E3655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268E0-2C27-4200-B923-6A35FC8D5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C6C9A4-F39A-4E0A-A203-5B5785C58EB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