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95242"/>
        <c:axId val="13634072"/>
      </c:barChart>
      <c:catAx>
        <c:axId val="72295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34072"/>
        <c:crosses val="autoZero"/>
        <c:auto val="1"/>
        <c:lblAlgn val="ctr"/>
        <c:lblOffset val="100"/>
        <c:noMultiLvlLbl val="0"/>
      </c:catAx>
      <c:valAx>
        <c:axId val="136340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95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C56-3896-44BC-A4F5-3D51DDC3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291-EAB9-4258-B9D5-6A443308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129-9BCF-4C9F-A908-1D7B84C9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E0D-2CF6-4F40-8532-25D5A3B5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9508-989B-42BB-B524-A4BCCD73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B8A-EB4E-46D3-A955-6A7E4CC0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21A-D517-4E28-8F00-037A3D32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F0E-4952-46CE-AE93-B5D9A8D0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D2F-D00D-42A3-BFAD-2D205479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CFC-2EAE-42BB-B99D-47F2F9C3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F8F-F6BB-4713-A9A8-A23C3801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801-2DA7-46C5-960C-7E8C13A2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44A47-9798-42E0-8478-FB01FB8FEB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