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57092"/>
        <c:axId val="75948382"/>
      </c:barChart>
      <c:catAx>
        <c:axId val="20757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48382"/>
        <c:crosses val="autoZero"/>
        <c:auto val="1"/>
        <c:lblAlgn val="ctr"/>
        <c:lblOffset val="100"/>
        <c:noMultiLvlLbl val="0"/>
      </c:catAx>
      <c:valAx>
        <c:axId val="759483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57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497-CF46-4528-A95A-12D227D4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2CC-5F9B-4E72-AC25-E631A689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90D-0966-4688-8E38-75CC9F3D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BAC7-DED5-4F92-B307-9F2305BB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BEF-3F2C-4C1D-BB04-7C0FC61F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B88-48A3-4771-B775-14C15483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1E0-65BF-4C70-B7F7-FC10ABDA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25C-5745-4796-B630-B285AB32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C6F4-87B4-4FD4-8056-293829C2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387-C72F-4945-B49D-435BC5AA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ED0E-65E3-47F9-8975-DF63B760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8DA-2EE5-4D76-85B0-B342CF8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3D52D-F606-421B-B869-1E0217FE90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