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69981"/>
        <c:axId val="38861894"/>
      </c:barChart>
      <c:catAx>
        <c:axId val="75569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1894"/>
        <c:crosses val="autoZero"/>
        <c:auto val="1"/>
        <c:lblAlgn val="ctr"/>
        <c:lblOffset val="100"/>
        <c:noMultiLvlLbl val="0"/>
      </c:catAx>
      <c:valAx>
        <c:axId val="38861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69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5D5-CB6D-4B15-BC55-AAF53501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430-9C71-407A-A802-B8416AC3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6A8-84CB-4044-AECD-D2B4F535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9FC-4A4E-4446-A2FD-B66ADC1E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5E0-5D8B-476A-A94A-E1E0DE71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658-FF53-4184-A1CF-EB3F00E4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DC4-EFEE-4F6A-A683-9A5119A5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1BE-F3DB-4981-B6DB-06AD3142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B99-F8DB-45D7-9199-DD187238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A2E-2D81-44CD-BD88-A8C9978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3E0-E2E0-4311-84C1-657AD14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0F2-F499-4881-8051-AD83453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5F803-BE75-454F-A026-DEBDAAD4D1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