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63890"/>
        <c:axId val="70780387"/>
      </c:barChart>
      <c:catAx>
        <c:axId val="20463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80387"/>
        <c:crosses val="autoZero"/>
        <c:auto val="1"/>
        <c:lblAlgn val="ctr"/>
        <c:lblOffset val="100"/>
        <c:noMultiLvlLbl val="0"/>
      </c:catAx>
      <c:valAx>
        <c:axId val="70780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3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314-65B2-4A02-A965-E91BC3F7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B22-EE0D-4605-B489-C66946F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DBF-5F8A-43FE-9F41-50C79585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CD9-3F05-46CA-985C-4108C785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DB5-E657-400A-B9CE-EC4E0DF7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EF0-9318-4057-B91B-B5B6F2D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122-CF4C-4EAA-A8D9-199067E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900-6B77-4CA0-BF16-E31B8AB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D29-6324-44A8-ACB2-23C1B14D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275-D9BA-4D2B-A28A-0EE14C34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622-0CC4-433C-852A-B98FF56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B1D-D974-4BFA-96FB-306F082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8635D-09F9-45D2-BF29-6FFE5BA85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