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85898"/>
        <c:axId val="45430596"/>
      </c:barChart>
      <c:catAx>
        <c:axId val="23785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30596"/>
        <c:crosses val="autoZero"/>
        <c:auto val="1"/>
        <c:lblAlgn val="ctr"/>
        <c:lblOffset val="100"/>
        <c:noMultiLvlLbl val="0"/>
      </c:catAx>
      <c:valAx>
        <c:axId val="454305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85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D52-63F1-43CD-9CE9-50CE52BA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196-FCE2-4F60-83EE-5C94AB3D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CC4-1DC5-4CB5-9CE4-7A9E4679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D40-D5D5-4811-A4F2-DA591778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DBBC-0C60-4D00-B73F-422F052F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4A37-5A93-4CCE-ACFC-E9F589A5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884-1F22-4EDD-8E30-7F766FED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5A1-BDFD-4944-B63E-C30284FE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425B-86C4-46C7-8DB9-30E39444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394-9041-47C4-A83D-79F41A2C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95C-1E28-47C3-8442-42C3D9B0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ED7-1C48-4FEE-A0F5-FCDDFD27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ACA3D-5D09-40CF-A209-A93B959599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