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93284"/>
        <c:axId val="57828288"/>
      </c:barChart>
      <c:catAx>
        <c:axId val="27493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28288"/>
        <c:crosses val="autoZero"/>
        <c:auto val="1"/>
        <c:lblAlgn val="ctr"/>
        <c:lblOffset val="100"/>
        <c:noMultiLvlLbl val="0"/>
      </c:catAx>
      <c:valAx>
        <c:axId val="57828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3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A2E-9333-4FEA-8C0A-49DC62B0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C6F-0074-48C0-B380-CAF5C03E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FC6-9B6E-4E62-8303-E8717CE5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486-B26F-421A-8300-8153074F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812-1956-43A7-9684-9E37138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C23-7CD0-4C3C-AAD5-155642E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1F4-5931-4E86-9700-8A06CF5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5F0-7647-4853-BA00-672ABAB8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B7F-2C88-46B7-8AAA-4FC48E3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C92-9548-46B6-BBB9-6C09BEE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11B-FF0E-461A-A493-8252CEA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A59-C12E-4CED-A1EC-32B335CA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3097-368A-46B0-A588-57D3E89FB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