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722"/>
        <c:axId val="16016607"/>
      </c:barChart>
      <c:catAx>
        <c:axId val="226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16607"/>
        <c:crosses val="autoZero"/>
        <c:auto val="1"/>
        <c:lblAlgn val="ctr"/>
        <c:lblOffset val="100"/>
        <c:noMultiLvlLbl val="0"/>
      </c:catAx>
      <c:valAx>
        <c:axId val="16016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E79-718E-46DB-8E44-401C241D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B78-AA24-402A-9441-2BB69DAB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AFF-9B72-4C94-AF45-389F88C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70C-9C43-4BA9-AF1D-EAADBD2F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9B1-7E7D-417A-8FCB-CB805766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7EA-F954-4B85-B0E4-810D88A0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481-C522-4A7D-AE9C-F5D6546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340-A604-4C0D-B334-BA053D4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EC7-3BDD-45B4-9229-AE0C8A4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588-4CF6-4D47-AA61-F2DB895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B68-A5F7-4DA2-92CF-862B8BA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E7E-C85B-4BA0-AFB1-169230B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1E4B-2F61-4EEA-AA90-635A9837D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