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03738"/>
        <c:axId val="87872643"/>
      </c:barChart>
      <c:catAx>
        <c:axId val="28103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72643"/>
        <c:crosses val="autoZero"/>
        <c:auto val="1"/>
        <c:lblAlgn val="ctr"/>
        <c:lblOffset val="100"/>
        <c:noMultiLvlLbl val="0"/>
      </c:catAx>
      <c:valAx>
        <c:axId val="87872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03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F69-B0B7-4C7D-8DFB-77332A24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720-77A0-466B-990F-B9CA85E1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D1C-AF11-4ECB-B99C-A2C52691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B95-E3C3-44A0-B7AA-968DA8CF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3E9-FC2B-4A32-9E99-09B91A9D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69EA-0573-4F1A-A579-7CF6B92F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EEE-B808-4159-902E-D005C49F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94E-93D2-4974-8AD6-BE0681FA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4DD-8423-4CC4-9E6E-897A1EA6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C96-3460-40A6-B2C5-9A8219B0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1E5-3C17-41DC-ADF2-74FE1045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3F5-022E-43C5-973B-A655DC7B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C9230-8F7C-484C-9B20-584B06DB0D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