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6DAE125-298F-4CA4-BF4A-03A7DEE004F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D9773558-85A4-4EEA-9489-67355932766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F65C70ED-D9C4-4ED6-BDD5-EF0705EFFB4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75F7BD0C-98F8-478E-942E-5D87B0FD655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A1F1738F-3C30-4856-8120-8D1C9CE6199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6F94DA-9292-48E5-AF51-FB47D27130B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7E2FF34C-9C01-4F16-AB1A-7C3120ECE32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D1DF8CEF-C4F4-434A-8363-7E893EBE0C5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6F0EF9AC-AC51-413B-AA35-D85361609EE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A0F75339-0A7A-4E2A-B46C-DD796304CF8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FDBBBA8-61A9-4285-9AE2-E4F5C850C7A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DDC4663-4A33-4C09-94AD-9531A0A55AC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2AFBB1-DF27-4953-8338-2646CEE999F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610D1DE-3231-4EC2-8A88-19F66DAB18FB}"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6A4AE2C-B252-43CF-B6AA-D3D7B08D332A}"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5A80A81-103F-4319-965A-8FE6E5195514}"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8637460-AD64-4C9A-940C-65CC6D2C07EB}"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7E3BBF-1947-48BB-9557-6DF375F6D04F}"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7223A5-A82E-4988-AE50-11DDC69854D5}"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43F4266-1177-4538-8A7C-ADA9593A6229}"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656DA9-9754-48DF-BB9C-A8A85B4378A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E14B30-1768-4162-8DAE-AF4EE3CD36E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7A98187-150C-40F6-9C15-D7263C0C4F5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81133B-834B-4827-9EE3-E4E9CA6E4E1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B6CC638-1A5F-4E15-A0B6-23540A16CD1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5A93CB60-9B3C-4C6A-B693-9B3A192EC7A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C90C295-C7DC-46B0-9185-7383556FFE2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2F464D-A3C0-4176-BA24-66AAD6ABA17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D5A30F-DE69-460E-9542-4A174940AFD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0D03F4F-200B-4586-870B-9326A78D99F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3B336D-9F0B-4E9D-B262-DBF6B82A599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5DAFAB-BA7F-4A7D-9D1D-EFF8B8EB052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AFFF30-7002-4C73-B650-360B7B3D4DE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D7EE8D4-B2E1-46E3-A519-ECBB8A453A7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23323B7-5A7E-4052-8720-059BE8E41A4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86AD7DB-DA22-4B37-8A5D-F2C1A8B994A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B0C633A-992B-47D2-A244-FA0D89DA114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C3FFA2-B067-4DBD-8C86-26C80775C2E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3AA92F5-975E-4602-9D85-A00BFC68A70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0D88D5-728B-4DD7-BC1D-E4C871255C5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CA2EA3-F099-49EC-A6E3-756A24DBA8A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7EA510C-2D06-433D-830B-7E1805FCE71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D1DA642-4E14-48C3-82DB-4F451497431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90B142F-616F-49C1-A512-7FC403DEC77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63D7713-934E-44DE-8853-DD621808F51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E815D5A-5712-4A5E-8E79-CB684901380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0B28AF-3FA0-4578-A230-524E4687E28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520125-AA6F-43FE-8E20-45D2B5403CED}"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5BF761C-ACCC-4FC3-89EB-00494EC6482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4C0E31-8B2D-4DFC-BAA9-2E9F365E8D2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BD03B3BC-C282-4DCD-90DE-D29CDB9C6E1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46C395-5B6D-4AEC-A14D-862C4207A273}"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22AD74-BD79-4DFF-BF9B-3259688D62A2}"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1BEC74-8A73-443F-A306-65A1A52F5FBC}"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98E72B-6437-4C83-AF44-B11A32A3A91F}"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17BAA9D-C937-4248-9959-356BFC130DEC}"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08E790-563D-44B2-A417-2B14975F8A52}"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A78BCD-8636-4A35-BE0D-660EF4DFFC0D}"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E88EF1B-5D47-4A53-96F6-6BA84DE69841}"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65E2AD-E3C9-465C-92FE-FF7C5D11060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5E9497DA-3F67-4052-BDB8-C4D636715751}"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6C581FE-B205-4264-8196-B0F73767E6C2}"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EA42A05-1936-4D92-B678-968671504F97}"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ABE94C-BEDD-4694-A036-73B2A104424B}"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E427EA-E62D-4235-93C5-9E9D3E6A22CA}"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EDE12FB-8F83-44B5-B75D-90E62643047A}"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A6DCFD-8E0A-43FC-9F4C-32FE24727931}"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C07B49-D415-4E9A-A98B-5C6EF85A4218}"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E8F5E38-4B0A-41F6-A81C-1E8515D161F9}"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F886DF-39CA-462E-BF77-DB6861B4D4F4}"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2B04F0-BC3A-4170-8549-E9EAD2582A89}"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7ED5CB6F-330C-41A6-9B8B-0FD6B1DC19B9}"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9036FC8-009B-4CD0-98F8-D70068E8164B}"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27EA67-586E-493C-A5A7-EC1B1FB77A8C}"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CA939F-8116-41E5-85F5-6844C84AE5ED}"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770D9DD-9910-44A5-AFFF-9F0ED6464382}"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6E4F799-DEC0-47D0-87C5-82554F7BC535}"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1DCAD4-86B3-45A9-AE81-3DC65F31C0CA}"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EB473D-C053-43D3-8A06-B5EE4B5D1ECB}"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DBC80CE-F68F-4892-8947-0A2CD5E9051D}"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1A694C8-0D16-4FDB-96FA-78E16B595B7C}"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81CDC7-D4C7-4C40-B7C8-745E7F67E9D6}"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75EA93-9D25-4BE6-8C23-D3306D164A06}"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A175F69-ACCA-4696-AA12-872847C2DD93}"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6183B2-9126-4A44-9945-F4254AE334DF}"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275B335-BCA8-49C1-8576-3901AB3AB571}"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2C5240E-F562-49FC-A2FE-CDC982BCEF8D}"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4D70208-6403-4E0B-88E5-C15AA08458A3}"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FABCE10-B7BD-4FB8-B251-A95EFD9027E7}"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25251D-D6AF-4820-947F-FAD87EEBE377}"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D0D0B86-EC1D-4C84-AD8C-04842D450311}"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7EEC2F-67D4-4C59-93A0-D8D3A8BDE1CB}"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89E802E-E0B9-450A-8204-8F1EBEB3AF70}"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2D70B1-6915-43FD-BBA7-8A4A3D401204}"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FCAEDD-11D8-4E21-B20A-43390D6F5F55}"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A901D2-EA10-421E-BF8A-242BD13C5DD2}"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A628E7-8606-46C6-90D7-AF4B7BC4372C}"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B65BBE-61A9-412F-BC5C-CFF8E4ABB6DB}"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6BAD4A-E955-42BE-B8B8-926FA90E3814}"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019FB9-C6C5-4373-9E17-9E6904659055}"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168DCD1-CD0C-47A0-9FC2-144731FF441C}"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ACB8F5-1C04-4341-B237-B9D1404209BF}"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9C57952-9025-403F-8A97-5979FAA2B255}"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B37BDD-D0D6-40CF-8DB4-5C5255F5E2F4}"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C79F03D-052D-4BF5-861B-21302462E79F}"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AEEE61-31C1-4B21-896B-7C7FCF24CBD8}"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D50431-A8AD-4EDB-A6F1-78D2FCC8C3D8}"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749CEC0-A00B-411A-913F-1CC81E27292A}"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ED2499-6EC5-49C6-A729-42B7939492FB}"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C86D3A-7FCD-4B71-9E77-0FF52DBCA72A}"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409D1F-E357-4224-8B39-BC9AAA61D8C1}"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A6BC6B-6C13-4A85-AE7F-95DD359D9F2C}"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7AEA550-5753-4630-98CF-0010CBED5D74}"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359E54-4F06-4FCA-88F6-565CAE2A431C}"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0E3A7B-9E27-4FB7-B04E-F836AA3007DF}"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E071A1-7A7B-4AD3-89AF-354AE2C22979}"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4161B6-3521-4E97-B967-5648D3CB3D44}"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