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8720"/>
        <c:axId val="38554650"/>
      </c:barChart>
      <c:catAx>
        <c:axId val="63738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54650"/>
        <c:crosses val="autoZero"/>
        <c:auto val="1"/>
        <c:lblAlgn val="ctr"/>
        <c:lblOffset val="100"/>
        <c:noMultiLvlLbl val="0"/>
      </c:catAx>
      <c:valAx>
        <c:axId val="38554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8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520-137E-4C1D-83F5-B303B80B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49E-4A4E-48B5-8787-8DE703D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029-1C1F-4AC9-AE6F-72CC222C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01D-C9C2-4D13-92D9-1320B43A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ACE-ECDB-49D8-9CAD-967D1F13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D67-597D-43C5-9F79-888AF012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297-6A06-42E2-A003-D4D5E43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773-8E28-4E70-8267-5859548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077-8F02-4D12-87AF-561EA7CE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9FA-BC3E-4E4A-9984-E524B4D9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167-CEEE-432E-B2B4-46CF6A2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274-499B-476D-8C87-4F9AC3F7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0DEAE-4D86-4C2B-8FA5-66D5B13D08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