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99691"/>
        <c:axId val="53685277"/>
      </c:barChart>
      <c:catAx>
        <c:axId val="186996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85277"/>
        <c:crosses val="autoZero"/>
        <c:auto val="1"/>
        <c:lblAlgn val="ctr"/>
        <c:lblOffset val="100"/>
        <c:noMultiLvlLbl val="0"/>
      </c:catAx>
      <c:valAx>
        <c:axId val="536852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996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E6D-515A-4ACF-88A7-B3888593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5C2A-8B1C-4414-8C56-4A0B4BFA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838-63E8-403A-9AEE-4077ABF6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FE1-1C23-44AD-A086-D7C37B74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F9C-BE28-4297-872C-3E3821BD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00A0-F3EF-433A-9A39-6A76DC93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D22-3503-440B-83FA-D0A096C6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5FA-DAB9-4357-8ABF-598E825E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364-E72B-4143-AF65-7BD3E0EF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337-D500-4261-A776-4A050304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8B0-32FF-45D3-AE30-4219B5DC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6C8-C575-4F3C-AD76-11CF4EFE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8F8D9-ED63-4395-AEF5-8958B75939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