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41179"/>
        <c:axId val="3517699"/>
      </c:barChart>
      <c:catAx>
        <c:axId val="66941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7699"/>
        <c:crosses val="autoZero"/>
        <c:auto val="1"/>
        <c:lblAlgn val="ctr"/>
        <c:lblOffset val="100"/>
        <c:noMultiLvlLbl val="0"/>
      </c:catAx>
      <c:valAx>
        <c:axId val="3517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41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27B-BE2A-42A5-A004-8035DFFA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273-10D6-483F-BA4D-7CF43C51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58D-285B-43B1-AA72-D4B6329C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76C-B54A-43D5-B3CD-A679D96D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2A1-41C3-4086-8A8F-34166AC2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B65-3ED4-4C73-8837-1083C482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B6C-3F03-41CF-85E4-C21B9BA1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709-688E-437D-B303-3F41310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175-061C-4763-84BE-6D1CFCBA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2C2-76AA-4F41-A4A8-5319F9E5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782-8114-4F87-819F-B88B0CCC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59A-9C56-4BF3-AFC8-AC9C814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CD889-2036-4216-8999-FE8997F346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