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649484"/>
        <c:axId val="76255901"/>
      </c:barChart>
      <c:catAx>
        <c:axId val="466494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55901"/>
        <c:crosses val="autoZero"/>
        <c:auto val="1"/>
        <c:lblAlgn val="ctr"/>
        <c:lblOffset val="100"/>
        <c:noMultiLvlLbl val="0"/>
      </c:catAx>
      <c:valAx>
        <c:axId val="762559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494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CE1-E52E-429E-AD3F-264231AC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C6E3-491D-4D88-BE71-898370E3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1E8D-A83D-4CBF-9979-11C9647C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5000-5A59-469A-87F1-C4FC6F5B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B8E3-8B91-4C34-B1DF-880FFC31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FBC3-534B-4C58-BABB-F9829D9B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6ED8-3479-49B0-A76A-F34591B3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B10B-47D9-4CF8-8ABD-9CA172A5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D05C-AD35-4994-A1CB-82340B69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B6A9-336D-45FD-80BE-DBA6C2A3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4AA7-139F-41F5-AC42-8038AB80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CF4E-2E34-4784-9FB6-ADAA3689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2144D-8B2E-4898-8A81-9D3B70EA74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