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4022"/>
        <c:axId val="80195635"/>
      </c:barChart>
      <c:catAx>
        <c:axId val="3114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95635"/>
        <c:crosses val="autoZero"/>
        <c:auto val="1"/>
        <c:lblAlgn val="ctr"/>
        <c:lblOffset val="100"/>
        <c:noMultiLvlLbl val="0"/>
      </c:catAx>
      <c:valAx>
        <c:axId val="80195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4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E5F-5A30-459D-BB13-BD7121F0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30F-9B6C-44F5-9144-71537DC3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2BE-63BF-4F0B-BBA1-732926F1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203-0440-403F-94BF-F7601CE2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196-3E67-494C-B1A0-E06EC479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75B-22AD-46CB-B250-B02C80A7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C12-8827-40AF-BBF2-E8021B40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0B9-B6F1-4461-8494-2EAA4F6B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7D5-E9C4-457C-8AEE-906E842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53D-8173-46E7-835C-13BE5B1E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140-D33E-484B-B4D6-68FB4B6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C0D-9699-4747-85FD-3FB6F710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CA102-CB67-495C-A046-94D6229C99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