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78036"/>
        <c:axId val="81867744"/>
      </c:barChart>
      <c:catAx>
        <c:axId val="34678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67744"/>
        <c:crosses val="autoZero"/>
        <c:auto val="1"/>
        <c:lblAlgn val="ctr"/>
        <c:lblOffset val="100"/>
        <c:noMultiLvlLbl val="0"/>
      </c:catAx>
      <c:valAx>
        <c:axId val="81867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78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FA2-FDB8-40B6-AC6D-58A2530E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BD6-5998-468C-9703-EEE56BFB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E73-01B4-4369-916B-77434380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667-B8FE-4FE9-812E-991C43E8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B08-E2C7-4360-8ECA-EE96D121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BBF-DF85-4429-8118-FD56330A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0EE-BAC0-48C5-A563-3A29E43B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93F-4834-429E-9724-99FE3FBA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4F8-78A3-472C-A197-713D531D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21A-1DE0-4707-990A-41BB9512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F4F-AF22-4853-9DBF-D7E2C0DB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15C-F0A6-462F-A1B2-42AD220E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701B2-30D1-426D-B3CE-B2D84AFB1A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