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94355"/>
        <c:axId val="97382139"/>
      </c:barChart>
      <c:catAx>
        <c:axId val="87594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82139"/>
        <c:crosses val="autoZero"/>
        <c:auto val="1"/>
        <c:lblAlgn val="ctr"/>
        <c:lblOffset val="100"/>
        <c:noMultiLvlLbl val="0"/>
      </c:catAx>
      <c:valAx>
        <c:axId val="973821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94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D56-FA96-4422-B867-72E3293E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74EC-920D-4F98-9783-A9E55151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959A-F8DD-454D-AE34-911ED973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BDE9-17AC-44F0-9B94-FA78D04D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E76-C18C-41EA-9846-18D57DA0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A2C5-FEC6-4BF7-9A29-F026DA35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44C5-2F30-4D36-B4D4-19651E26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A58-B8DC-404F-BE16-4BEF388B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668-9BA0-4840-BD0B-152CEC09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648-1BD9-4CED-9C8F-381E40FC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66A-D817-4E96-99BA-D63FF4A3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4CEA-2198-4112-A2F9-ED5F8327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9E1BE-EA25-4105-B901-641CBD2C8C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