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99594"/>
        <c:axId val="33477848"/>
      </c:barChart>
      <c:catAx>
        <c:axId val="14599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77848"/>
        <c:crosses val="autoZero"/>
        <c:auto val="1"/>
        <c:lblAlgn val="ctr"/>
        <c:lblOffset val="100"/>
        <c:noMultiLvlLbl val="0"/>
      </c:catAx>
      <c:valAx>
        <c:axId val="33477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99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409-D6E5-4C54-8B6E-F25B9A95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FDA-BAF6-4329-93DC-71CB19C6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F58-E52A-419D-B54F-40249B6A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548-B110-4544-9CFD-367B5150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33C-C0F6-436B-A472-45B544DC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DF1-DB44-47DA-892D-AC1911B1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7B1-419B-4560-A875-32B1BD62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CFF-FE32-4308-9750-40ED3422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27B-C577-4847-80C5-BAE48779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B5B-87AE-4EE3-95E0-634D4295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7C4-7813-4222-B961-696DD493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8DB-D143-4144-8FF0-7A9C5945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39135-7CBA-4F41-B844-1A134BB485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