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13034"/>
        <c:axId val="38729389"/>
      </c:barChart>
      <c:catAx>
        <c:axId val="81613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9389"/>
        <c:crosses val="autoZero"/>
        <c:auto val="1"/>
        <c:lblAlgn val="ctr"/>
        <c:lblOffset val="100"/>
        <c:noMultiLvlLbl val="0"/>
      </c:catAx>
      <c:valAx>
        <c:axId val="38729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3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D2D-99B1-494D-AD45-88728649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812-3D71-4984-A0D7-54CF6E6D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6AF-E8A6-4D32-A90D-379B4F84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1CA-05F4-49A7-9E4C-ACEE130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33E-2305-4A8B-9376-868F6AAD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37C-9632-4D85-8633-2E133B4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EEC-1BF0-4FF8-A31C-411389C6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917-8FC1-48D6-90E2-43710F70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9FD-494A-4E7E-B1CD-88ABADC2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544-5CB9-4633-B0CD-70B3CC1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501-EB9A-49C6-9FD4-0D3C0F7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64F-2B59-489F-BBF0-7482E55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A8506-18DE-4A5F-8138-2F6AA9206B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