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60515"/>
        <c:axId val="17114116"/>
      </c:barChart>
      <c:catAx>
        <c:axId val="96460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14116"/>
        <c:crosses val="autoZero"/>
        <c:auto val="1"/>
        <c:lblAlgn val="ctr"/>
        <c:lblOffset val="100"/>
        <c:noMultiLvlLbl val="0"/>
      </c:catAx>
      <c:valAx>
        <c:axId val="17114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60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EA3-D5FE-4E2D-A842-0C9B5BB7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899E-430C-497F-B542-C77E9E76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A46-A9E9-43DD-BE02-1CDD896F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161-2C2F-423D-BBD3-CDA0AD79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F68-2D89-4431-8F06-2E7478A9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B2A-169C-4C18-9A8E-07DA3DAC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0269-D7F2-4FBB-9E00-93519E8F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21C-D25F-420B-B70E-95BDCE7D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E40-E5F4-48FB-98DB-3C543F62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26C-73C8-4C43-8F91-C7AD9A26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2AA-74F1-4FD0-B9E2-5FE79ED9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8EA-4750-4270-9156-A5700592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1F40C-93E7-4B37-97B9-7C7E2225ED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