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15819"/>
        <c:axId val="3415056"/>
      </c:barChart>
      <c:catAx>
        <c:axId val="52615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5056"/>
        <c:crosses val="autoZero"/>
        <c:auto val="1"/>
        <c:lblAlgn val="ctr"/>
        <c:lblOffset val="100"/>
        <c:noMultiLvlLbl val="0"/>
      </c:catAx>
      <c:valAx>
        <c:axId val="3415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15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313-99D1-4FE7-9FF7-405B1D76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8FE-9931-4C3F-9A69-CC617E85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E70-F170-45FC-A2A7-D57C0712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7B9-FE02-41A5-B809-F029801B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39B-8671-4C0C-B3D0-BEF04E8D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BA6-2241-48DF-B821-F377BE39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A90-01AC-47F1-A7CC-B1B3BDB6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751-D38C-466C-9045-FA81B42D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A4B-1915-4429-9A5C-C791BE91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450-C6C0-4E7B-B35D-F827A7AE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5B0-4E5C-4582-A638-D85791F4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CED-11E1-4354-9791-B65B294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EADDE-41CF-420C-84C7-69ED5BD9E2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