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7853"/>
        <c:axId val="8005600"/>
      </c:barChart>
      <c:catAx>
        <c:axId val="2309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5600"/>
        <c:crosses val="autoZero"/>
        <c:auto val="1"/>
        <c:lblAlgn val="ctr"/>
        <c:lblOffset val="100"/>
        <c:noMultiLvlLbl val="0"/>
      </c:catAx>
      <c:valAx>
        <c:axId val="8005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ABE-DB9E-44BB-92C1-45F3A5D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5F2-32B0-45DE-AD68-E581955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8AE-C3CA-45FF-9928-ABF633B2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440-4F0B-44F3-83DA-032A0BAD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EBD-A608-45D1-9B00-E1878AE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86D-EE52-4DA7-B890-B96A36E4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3FC-CB05-4BFC-86C5-0C969EC2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8EE-F015-4225-9E3E-640EFDCA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FE8-5DF1-46C6-977D-5CE6309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849-A499-476E-A73B-33EB26A8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691-6808-4B11-BD0E-8538614E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05C-3525-46DE-B5E6-2230979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E4F56-5984-480E-9A51-868DD48A6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